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E8-FCAE-42C1-96A6-E7A2694C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562-A0BD-4D43-B4F1-A2578CC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E77F4-726C-49D8-BE9D-685B328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C84BF-6DEB-4C78-992D-20D5AD6E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993AA-64D6-48AA-AE58-4433F04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6E2D-20A9-466F-BF6C-FA3A488E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1B6AF-C60A-4DED-A481-477BFDDB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17E0C-C161-4F21-870D-4CBFB2A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D4AA3-E374-4828-ABE3-492D87E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A7792-DD76-491B-9679-3A88842F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7697-54DD-4CD3-9555-1CCF79BC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140A5-6DB4-47FC-BAF8-859242A3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5ED-C06A-45D4-B38C-900EBBA5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B3A60-3656-407E-93F9-3A5DDD4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E92E-7C9F-4CCC-AB51-4270A94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11161-4D1C-46DD-833A-08FF6EEE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219AD-B8B0-4C5E-B887-E7D4211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9039B-8484-4363-84B7-6655F3A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ED92E-A924-4EB4-A4B2-3797112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4D8A-08B1-4ADB-BA01-B47C3EC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CEA81-CB14-43D1-AA23-13EF075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B80A2-5713-42BD-89E0-BAA8935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856DA-9EF8-475E-8D9D-77BE0B9B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4A5-1E1A-438B-BB79-BAA5081C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0CF67-4221-40FA-84EE-19A08E89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FA5A-AF57-4F89-ADF6-602AFB1F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787B-33BC-4982-98E9-405E3FB8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DE80-BEBB-45B0-9179-360E3CDC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0ECFA-610F-4BDA-954A-2F786995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91F3-2BF0-4850-B55D-B6B13AA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F84B5-3580-4FA3-99C0-857D6007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791F9-AB77-4601-8FB5-84CBF9F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EC78-115C-42A8-97C9-79B727C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FBA39-1147-4AF7-AF13-8B1A53B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6C0-F284-48FA-BE04-1695F0CC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94BB1-3D4E-42CC-B713-1B697C2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DC5A-19E9-42FA-BFED-A5611CEC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237C2-D6C4-4911-8969-CA02EDB8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9FD3C-D689-4F87-B3B5-14B16BC3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20187-99BC-4764-9F45-75F2D51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50DB4-1528-4CF8-8817-F711D034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B2FBB-5FE9-466E-BB9D-D597ADD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726DC-3AC0-4C09-8A78-2568031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77F8-C9AB-465E-A86A-06A12874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293E6-5ACA-4584-9842-76C5BB5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568-40F2-4674-AC12-531871AD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93CCA-5652-48FF-983D-8FA488D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9A9F0-6AD2-4DF1-B77A-7609DF5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FA35A-E9A8-45C1-84E6-521B430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C30BF-4A73-4857-9310-EDB6DB4A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ED234-FBAA-4241-8368-90AAABB3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E5EBE-6824-4153-AE73-FD15E49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2360D-33FB-4DDB-8780-9D72F279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4A505-9C44-4C9A-AEA5-26111B95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F8CEA-D60C-4F71-A8BF-369E2761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EA8EA-FED4-49BB-B09B-88BCDE27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117-DE4F-4CE1-80AE-A372D47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F8758-8499-41DF-AF4E-E96319C5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167C2-4744-49E2-B603-67566E6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F744E-0767-4433-A347-310AB609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5DAEF-DFEC-4954-A1D2-3383D82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AD144-7E72-4D5A-8D29-CC98B70A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11724-3F0B-42AC-9B6A-39FFDFD5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3A097-724B-4BE8-8DDB-FD49039B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D0C4B-F85F-4939-B773-1B9E112B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73E10-ACAA-4ECA-86C6-CBF7E3A8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F4E6C-70B9-4FDE-A972-265B9C15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EC6-9F2B-4CD9-9355-C4B0852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AA579-C21C-4115-AB5D-6B6F642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00D22-A490-49CB-9DB5-D127B8A9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CFA1C-282A-4128-A60E-8A82F44D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20E15-083A-4214-9871-C378E5C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A3759-232F-4B04-A585-FAEFA04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9281F-5073-4E18-B9C1-A3D19EC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3A79D-2E95-4C02-90DC-E547372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7EB0C-7E79-415F-AC91-A15BE690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1EF67-092E-4994-AF51-895C9F3C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CA9D2-CFB9-4256-AE15-52CBF836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5324-3931-49EB-ACAF-2F1EB00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E51FE-4179-48A4-B089-3C7DBE1B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4B045-E1DD-4AF4-863B-E14FA47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AD0CB-0FE7-4A01-A2B7-75B8C15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6EE11-FF4C-4DA1-A6B6-53FB6AA6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A7403-6544-4B1A-95D0-1ABED6C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1F2E9-DB95-4844-9AD1-9A15163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E5672-B39A-4051-9BE7-D0A5104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18B81-4AD2-40E0-A4C3-BFCFF58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B9ABA-C199-42F2-B9B1-4D1BEEA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CD309-5426-4D94-9A21-53CF4A52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729-F272-4951-9483-B3E91B5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90C87-39D6-4C04-8506-8654C00E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74F4-2B46-4124-94BA-9FA7578B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BD8BA-D1FD-4323-912F-52730730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D51B3-22AA-4AFD-B883-3823CEA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7AD99-AB50-439D-AFA9-2D6DD15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98FD6-FE57-407C-8AA7-3AED37F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704AB-9132-4845-B908-7216387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496DB-65E9-4370-A052-C8437E7B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4133B-F308-4F59-831B-5C7672A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67E-4292-4A7D-A9C2-BD8CA6E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7E2-B293-4879-8ADF-F67B10E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7EDEC-DDFF-410A-9819-534EAEF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DC6D0-C3F5-4289-B53F-12E0AFCE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62847-E37F-4F82-A8F8-3AE49DA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410BE-AF55-454C-AE48-10F98729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E93E8-D73B-46C4-9003-6C789D30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02EDC-4737-409A-B54A-801503B2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9FE0A-FD00-4439-BB13-435BB6E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FFD77-8786-46B8-A3C7-0C803979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FCB40-A560-483D-BDE4-39A1844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5C5A2-7495-469A-BE49-9A2C955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05B0-96D7-46CB-BEE5-F1DF419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866F0-2B01-49D0-BF82-E4632B28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E695E-120B-46A3-9710-F004D2A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FD31C-80FF-431B-9EB6-2F29696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732AF-39A6-4D3C-B912-24C4332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61F94-0B1D-4713-B85F-E25995F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6D325-9492-4184-A011-A3DF1525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B3825-0E0C-4714-A845-5A516E70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0BC37-89C6-4F60-B88A-5B33CFB2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A6B24-E284-4111-AF97-9303AE6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2AF18-476C-4476-AE7A-6B7EC94B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8FB3-37F1-48D6-A201-1CD272F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5D3BE-D31D-43CB-9BAD-B4139D8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C92AE-2527-4ABB-A628-A4A6F379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0943C-53E5-4ED9-86C7-6850C1E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D7451-81B7-43B6-84F0-0CA4CB4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BA1AD-E613-4E1D-A960-874E1B6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DD5F5-CBD1-442F-ABF0-7D6D09D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3FC02-95A2-4137-BA49-7E5F9A75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A9E7C-CB22-465B-8B32-BBFA75D4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84357-E966-40EF-AE0F-79C04D7A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7FA29-A2C0-40BD-A3FA-E1FEC536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33B9-B46D-453F-B429-DE9E3AA0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481A7-6307-46B7-8D7B-684946B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FE9CF-0AE1-444F-9C5F-91E8FBDE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A3D41-65C8-4881-8186-5B66C42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3BFCB-DD0D-4A48-8F77-762B098F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56892-6D98-47F1-809C-172FEADF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87838-8A24-480A-81AB-1B2979B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15E6C-5390-406A-8F79-B7688AA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FBA5B-C352-4092-8AF3-968C875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AF9B7-8EE0-49D7-8717-10D1B95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9D3F1-4E6E-46CF-8627-4601E213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C3B6-CCE2-4DC9-9C7C-8C984E46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D5EDF-4922-4026-9A9F-679DF0C0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909AA-8AF0-472B-8E1A-301FDA17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102E2-3213-4C13-A986-3A4CC934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2BF2F-BD58-49DE-95B6-71ED29BC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0D19A-56DF-490C-A09C-5E421AE9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33EB4-117E-4C9D-971A-F5903B0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5F27E-2488-4D55-96D7-B4FF49E3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A6DA4-38DD-4168-A925-640D364F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AD697-D820-49E4-A70C-E39C8A6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A28AE-C58F-425D-987F-1593AE0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2B25-71CD-4FA5-B829-3956E419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8F511-F4AB-4768-8926-0DBF50B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7789A-3EC2-46D9-9F9C-10A8DA66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2CB4C4-A866-4225-BD65-FE48D6FD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97ECE-E636-4172-A964-7C4EB8E8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6E14A-CA2B-443D-807F-015DD296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F9734-E9CA-442E-A424-84B92989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EA008-52D0-4DD1-BB02-E049B03D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13DFA-2BBD-4FE1-BC22-F2C30C5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B1F0F-6328-4067-9995-456EE787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0738A-FA8B-4945-8BE9-F48C53D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88FA-D50F-40AA-B507-CCF93CA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10015-0979-4CFB-9DC2-841922D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E9728-D240-47B1-A366-E0B4EDA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1C353-AEB9-4BCD-A21A-1DBCD96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3F654-CBD9-434F-A402-93AED675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2F25C-10CB-418C-8555-4936DEC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88755-0C65-4362-8F1C-D2FD87C3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B1744-2ADB-411E-B983-7BD3DC5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8F9AB-AB7B-464D-B06D-5706110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B4331E-05F9-4D38-BBFB-4347031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B68D9-D468-4B09-BCB2-EEC8300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E413-5303-4C5A-99BD-A455E5C3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F1E3F-EF5E-4E55-81A6-235EFCB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164ECC-816B-4380-8521-260A72C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F9AA1-E9E1-4D92-9B22-1013808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9BB14-451D-48B6-B1DD-5ABA8A7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E655F-2288-41F9-BE94-DE91DFD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E8FFE-7676-4AFB-8C44-7F77C9B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96FB6-F25B-4982-A401-A08D245F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90B69-59EA-4285-BCE3-17611CF9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7355C-6CB4-4B85-9F0F-A6BD8B12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8BB86F-7379-4870-A9B6-2BA509F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A04F-B0CF-4AA9-9C6E-E31C9F36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52D8B-BC1F-4CE1-B762-2FBA4BEF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CD89A-C376-4812-A740-E2C9FAC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495DE9-4BF7-4336-9BC9-B1E7E15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94272-C42C-4776-9829-AB4D2A8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6A527-4146-48CC-8721-87B1407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F875D-906B-4BFA-8D0F-3A29875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0B526D-EE04-4C02-9A70-A8C7080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7A7888-5A59-48EF-8E0D-F3E5C020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3E6A9A-2259-4113-8B37-F24DEEA9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4E865E-6E62-4DAC-B402-468CF00D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7ED8-3134-4106-9125-F9DB9634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DEFF83-D98A-41B1-819E-D4585D4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1BF4D-547C-4932-8755-C3BCAE3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97D4D-C91C-45D4-9F01-11100FF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D205BB-4C97-443F-B741-7FA1096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5C5D4A-C5A7-439A-AC95-893FE43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578BB4-2D07-4839-B610-3585D7B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E5A401-A433-436E-AD6F-39BEF20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EEE81-9D67-420A-891F-40A1EB4A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6DCF99-C816-42E5-9C79-3B4F8ED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6A470-EF77-480B-9981-1AC51C3B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2E2-335C-4ED4-BD20-5D37B78D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E072-872D-415B-AE59-42A4022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DCD4C-0D59-46E8-B835-DE63F799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5638E4-8D8F-4B49-AC29-FF3A14D3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A2CE1C-C99B-48C8-8DF5-EB724D06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165F8D-B344-400C-87F8-1C5A447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F2FF39-4812-4745-A7CD-FFB7520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22E9D-373F-4FCA-847D-2A0B6B7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5BE931-B8B0-45DE-87BA-9A1D10C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1CD3C1-814B-439F-8AB0-87CD8AD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AF2FA2-426B-49CE-B9D6-6FA6F59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9292BA-B5C0-4B7B-8790-5E1D9E8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70D9-01F3-47AE-A604-D8C3F48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3E8343-78E0-4176-872B-6FE51F2D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F9B2B-E860-431E-A3E3-780EFEB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60953-AB24-42A8-93DB-EAB0BEBD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FA4F3B-0925-495E-B49A-6D733F4E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E17719-2983-4743-AD86-DA92B08D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7DBB70-8A55-46D7-B824-975D5438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5EC82-60EA-41F5-B6CC-B45CFB9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7620EC-F235-44C9-9FE4-11FCF710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DB3832-C98B-4871-81AB-B09D143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2A4BC4-7788-447A-BDE3-C04DD37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9EDD-040D-43F6-9A2C-091947A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068940-A317-4FF4-91CB-F3A8FEB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04410-8CBF-4EEC-B5CD-2663511A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C3F1ED-2C37-4293-B6AB-F15DC45B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4DEE69-236D-4403-A8C4-48511C32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199798-6332-42BD-84A4-8E221F47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21C2-53D2-4A8E-BA4F-0E48994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8A99-37E5-4B6A-BCF4-3282E1BA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FC7D-C73E-4C53-839A-198F2AD2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2656-7161-4F94-ABDC-EDEAB9D5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096D-9B1D-40C3-8D2D-BEE9B9F9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0D68-BF9C-420E-94F7-653F0D2D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C02E-2844-4BB7-AC43-045C5619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3A5-3DD4-4886-85F8-C1438735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2609-EC30-4920-99E4-C8378B0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970E-3366-44FD-81A9-00D81810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7041-6FF3-48B3-A3DB-EC8F8E8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593D-DE18-49A1-8E7D-6960378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E519-3A3C-46B6-A4D5-D4CF7F8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C0F8-5FF4-4816-A448-287C07E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951C-FC08-41B4-9A25-0DB03D5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D787-D9B6-40EF-A011-2C69220B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A5A5-8081-4B15-8E1A-FF59C48E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4A80-A05B-4782-AF5D-91933335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6E8-7205-4A67-9EE9-2294D88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8C7A-18F3-4654-8934-0806C7D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9D87-A06E-4188-BD85-91F969E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A349-BDAA-46DD-8EE4-84C67A7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6BC0-2CCD-4742-8288-11624E4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EBAF-53D5-4D53-A641-95F6F13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AB6F-5446-4887-A564-DD0AF1F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72EF-2251-4E7F-A529-42647B2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F9A5-D2A3-41FA-92AC-7A3F408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A728-5E1E-40DB-AB5D-E38646A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6A0B-9CDE-47BA-8FA7-6610AD64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D56-47D0-4B7C-96D0-A0BA908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8FE9D-75E0-4B9E-A28B-46CA3976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3E0F-6B8B-41CA-B191-B07D01B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097D-146E-4838-B469-A0D9059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B17F-8EFF-44C6-968B-E3A71AD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BF46-6766-4124-9576-D131547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E4CC-0066-4BC2-AA4E-75AC5E5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9C12-CBCA-4388-B07E-26040BC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CE9A-70B6-4A0C-A4AD-EB26D68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9D47-D2FB-4785-9A48-547A036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9AE2-76B0-4D3A-AFE8-AC6C198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673-C5FB-4A0E-BDA2-CF769487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A183-867E-4411-B9B8-EFCEF43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3386-628C-4E40-A88D-C462000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3DF6-D9C0-4865-8A43-96BF1CFF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502EE-7CC3-4B23-80BB-F48D8C79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5386-F957-4A9B-BCA7-E08E1721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0FAF-1D31-4A3F-A3CF-96B8C77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013F-40EF-4AE4-B564-F6F8259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51F69-13CA-4FB5-A73D-0E307F4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D2FB-8562-4283-8A47-E0D48C0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9757-F529-4674-8B39-2B09E18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15B-1510-4023-98FE-28DAD0BE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FF15C-277B-4018-8F00-2B6B1E18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1857-E1BA-4506-A121-9E9FCC2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0E38-318E-45E1-AFBC-068BDF73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2A64-3EEC-4133-AA83-86386F33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D4D5-366E-4F94-92B4-739A18A7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37F9-2770-4F35-BC0C-C5FEDBBA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32EE5-2BC9-46D2-8542-07A9231F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E6F0-3017-475D-A2D3-78A4EC1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0ACC-3BFE-4791-A9D5-64A2CF69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10C6-C4B2-444D-8197-8262CA0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463-B0E4-4958-A051-98A0E71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711E-0E73-4D76-846E-CAF4ED69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F62B-2227-42FE-BB5A-D832CA5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F194-8BB4-45C1-9DA1-4A31F12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3FA40-22A7-4D5D-ACAD-F1F9669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E453-6FE5-4137-82D2-D0F627C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9E8F-E10F-4C08-B466-CD0BCED6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D98B-55FE-4D4A-9BD5-7EE22788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1E81-33F4-4C5E-B82E-03F510E2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EFC4A-3EA8-48D8-8377-45F80F9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6627C-9F96-4844-AE70-7286BC4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EDBB-B6EA-41D2-8197-0D732C6DF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2C54-A944-4A12-814D-15A584D9ED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791F-D9A9-4637-8263-EC0C3C1A0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734A-DEAE-4C8D-B3C0-510B04D51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A2F-EF57-4B35-96B0-7724EB1A20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48C-B713-4E25-965E-0E6EAF0A8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407A-7B48-4991-B2BA-53698247A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F5A-2F1E-4BC7-ABB8-A5FEE2BA09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AAB8-2F9B-4E58-9BF9-6EC4B7DD13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704-6893-4DE1-9B20-14C5C59D59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6/20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.Kisel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DB2-6B95-4F3D-9F43-32C3007D4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3F88-97BC-419D-A7CF-815748976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84F-1B39-4C82-90C8-CD3F927C8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FDBF-AED2-4D1C-AE1D-3CB3E39CDB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F218-4399-4D8F-9047-0A8743A94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AF3-9C70-4A95-873F-C10D44CCD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780-7C51-4304-90EA-E4E5CCD232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889A-9BEE-4A2A-950D-310CC2C2A4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1BB-8F07-4585-9B29-197BA57F5DD4}" type="slidenum">
              <a:rPr b="0" lang="ru-RU" sz="1400" spc="-1" strike="noStrike">
                <a:solidFill>
                  <a:srgbClr val="515f7b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702-29EE-4BFA-9897-667C73CF5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D5A-5C97-4047-A6B2-37EEBA592D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297D-5E3E-45B9-83F7-BC6EA4E34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EE8-9FC2-4287-8B2F-59F08C9706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6C4-1214-4473-B954-CFC1012C1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C41-6133-4EEE-85C8-FAB3CF701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A90C-6B61-42F0-BBE0-F99828D45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vn.racf.bnl.gov/svn/eic/eicroot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990720" y="44193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 (Body)"/>
                <a:ea typeface="Tahoma (Body)"/>
              </a:rPr>
              <a:t>A. Kisele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BNL, 06/20/20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Rectangle 7"/>
          <p:cNvSpPr/>
          <p:nvPr/>
        </p:nvSpPr>
        <p:spPr>
          <a:xfrm>
            <a:off x="0" y="9144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EicRoot status report 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and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calorimeter code developmen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7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view (June’2013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19" name="Picture 7" descr="tracker3D.png"/>
          <p:cNvPicPr/>
          <p:nvPr/>
        </p:nvPicPr>
        <p:blipFill>
          <a:blip r:embed="rId1"/>
          <a:srcRect l="22502" t="12000" r="9000" b="5333"/>
          <a:stretch/>
        </p:blipFill>
        <p:spPr>
          <a:xfrm>
            <a:off x="762120" y="990720"/>
            <a:ext cx="7772400" cy="5276880"/>
          </a:xfrm>
          <a:prstGeom prst="rect">
            <a:avLst/>
          </a:prstGeom>
          <a:ln w="0">
            <a:noFill/>
          </a:ln>
        </p:spPr>
      </p:pic>
      <p:sp>
        <p:nvSpPr>
          <p:cNvPr id="1220" name="TextBox 8"/>
          <p:cNvSpPr/>
          <p:nvPr/>
        </p:nvSpPr>
        <p:spPr>
          <a:xfrm>
            <a:off x="1365840" y="5562720"/>
            <a:ext cx="6228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BG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1" name="TextBox 10"/>
          <p:cNvSpPr/>
          <p:nvPr/>
        </p:nvSpPr>
        <p:spPr>
          <a:xfrm>
            <a:off x="2668320" y="3124080"/>
            <a:ext cx="58140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B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5647320" y="1981080"/>
            <a:ext cx="55116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F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4046760" y="2590920"/>
            <a:ext cx="56952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V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4343400" y="4267080"/>
            <a:ext cx="585720" cy="6426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TP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5" name="TextBox 14"/>
          <p:cNvSpPr/>
          <p:nvPr/>
        </p:nvSpPr>
        <p:spPr>
          <a:xfrm>
            <a:off x="6935040" y="1219320"/>
            <a:ext cx="5922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G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ing scheme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8" name="Rectangle 3"/>
          <p:cNvSpPr/>
          <p:nvPr/>
        </p:nvSpPr>
        <p:spPr>
          <a:xfrm>
            <a:off x="380880" y="91440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o-called ideal PandaRoot track “finding”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andaRoot track fitting code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685800" y="144792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onte-Carlo hits are digitized on a per-track basis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ffectively NO track finder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685800" y="297180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Kalman filter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teering in magnetic field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recise on-the-fly accounting of material effects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1" name="Footer Placeholder 10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2" name="TextBox 10"/>
          <p:cNvSpPr/>
          <p:nvPr/>
        </p:nvSpPr>
        <p:spPr>
          <a:xfrm>
            <a:off x="6499080" y="2514600"/>
            <a:ext cx="21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MRS-B1 solenoi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design us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xample plots from tracking code 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0" y="838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1 GeV/c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</a:t>
            </a:r>
            <a:r>
              <a:rPr b="0" lang="en-US" sz="2400" spc="-1" strike="noStrike" u="sng" baseline="30000">
                <a:solidFill>
                  <a:srgbClr val="515f7b"/>
                </a:solidFill>
                <a:uFillTx/>
                <a:latin typeface="Symbol"/>
                <a:ea typeface="Symbol"/>
              </a:rPr>
              <a:t>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tracks at 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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37" name="Picture 12" descr="chi-1.0gev-0.5eta.gif"/>
          <p:cNvPicPr/>
          <p:nvPr/>
        </p:nvPicPr>
        <p:blipFill>
          <a:blip r:embed="rId1"/>
          <a:stretch/>
        </p:blipFill>
        <p:spPr>
          <a:xfrm>
            <a:off x="152280" y="12952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3" descr="dp-1.0gev-0.5eta.gif"/>
          <p:cNvPicPr/>
          <p:nvPr/>
        </p:nvPicPr>
        <p:blipFill>
          <a:blip r:embed="rId2"/>
          <a:stretch/>
        </p:blipFill>
        <p:spPr>
          <a:xfrm>
            <a:off x="4495680" y="12952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4" descr="chi-32.0gev-3.0eta.gif"/>
          <p:cNvPicPr/>
          <p:nvPr/>
        </p:nvPicPr>
        <p:blipFill>
          <a:blip r:embed="rId3"/>
          <a:stretch/>
        </p:blipFill>
        <p:spPr>
          <a:xfrm>
            <a:off x="152280" y="40384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6" descr="dp-32.0gev-3.0eta.gif"/>
          <p:cNvPicPr/>
          <p:nvPr/>
        </p:nvPicPr>
        <p:blipFill>
          <a:blip r:embed="rId4"/>
          <a:stretch/>
        </p:blipFill>
        <p:spPr>
          <a:xfrm>
            <a:off x="4495680" y="4038480"/>
            <a:ext cx="4346640" cy="203220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3"/>
          <p:cNvSpPr/>
          <p:nvPr/>
        </p:nvSpPr>
        <p:spPr>
          <a:xfrm>
            <a:off x="0" y="3581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32 GeV/c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</a:t>
            </a:r>
            <a:r>
              <a:rPr b="0" lang="en-US" sz="2400" spc="-1" strike="noStrike" u="sng" baseline="30000">
                <a:solidFill>
                  <a:srgbClr val="515f7b"/>
                </a:solidFill>
                <a:uFillTx/>
                <a:latin typeface="Symbol"/>
                <a:ea typeface="Symbol"/>
              </a:rPr>
              <a:t>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tracks at 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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2" name="TextBox 19"/>
          <p:cNvSpPr/>
          <p:nvPr/>
        </p:nvSpPr>
        <p:spPr>
          <a:xfrm>
            <a:off x="653400" y="16002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&lt;ndf&gt; = 206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3" name="TextBox 20"/>
          <p:cNvSpPr/>
          <p:nvPr/>
        </p:nvSpPr>
        <p:spPr>
          <a:xfrm>
            <a:off x="2409480" y="43434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&lt;ndf&gt; = 9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4" name="TextBox 21"/>
          <p:cNvSpPr/>
          <p:nvPr/>
        </p:nvSpPr>
        <p:spPr>
          <a:xfrm>
            <a:off x="2667960" y="609588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look very reasonable from statistical point of view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38088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vs. pseudo-rapidity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50040" y="6019920"/>
            <a:ext cx="91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xpect 2% or better momentum resolution in the whole kinematic rang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50" name="Picture 10" descr="dp-vs-eta.gif"/>
          <p:cNvPicPr/>
          <p:nvPr/>
        </p:nvPicPr>
        <p:blipFill>
          <a:blip r:embed="rId1"/>
          <a:stretch/>
        </p:blipFill>
        <p:spPr>
          <a:xfrm>
            <a:off x="1219320" y="160020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4" name="Rectangle 3"/>
          <p:cNvSpPr/>
          <p:nvPr/>
        </p:nvSpPr>
        <p:spPr>
          <a:xfrm>
            <a:off x="380880" y="990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at </a:t>
            </a: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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vs. Silicon thickness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5" name="TextBox 9"/>
          <p:cNvSpPr/>
          <p:nvPr/>
        </p:nvSpPr>
        <p:spPr>
          <a:xfrm>
            <a:off x="-36720" y="6019920"/>
            <a:ext cx="919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~flat over inspected momentum range because of very small Si pixel siz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56" name="Picture 11" descr="dp-vs-thickness.gif"/>
          <p:cNvPicPr/>
          <p:nvPr/>
        </p:nvPicPr>
        <p:blipFill>
          <a:blip r:embed="rId1"/>
          <a:stretch/>
        </p:blipFill>
        <p:spPr>
          <a:xfrm>
            <a:off x="914400" y="16002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3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38088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at </a:t>
            </a: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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vs. Silicon pixel size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1" name="TextBox 6"/>
          <p:cNvSpPr/>
          <p:nvPr/>
        </p:nvSpPr>
        <p:spPr>
          <a:xfrm>
            <a:off x="98280" y="6019920"/>
            <a:ext cx="91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20 micron pixel size is essential to maintain good momentum resolution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62" name="Picture 7" descr="dp-vs-pixel-size.gif"/>
          <p:cNvPicPr/>
          <p:nvPr/>
        </p:nvPicPr>
        <p:blipFill>
          <a:blip r:embed="rId1"/>
          <a:stretch/>
        </p:blipFill>
        <p:spPr>
          <a:xfrm>
            <a:off x="1143000" y="16002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llow to easily add “simple” tracking detector templates to the “official” 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Require next to zero coding effor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TextBox 7"/>
          <p:cNvSpPr/>
          <p:nvPr/>
        </p:nvSpPr>
        <p:spPr>
          <a:xfrm>
            <a:off x="1489320" y="594360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see tutorials/designer/tracking directory for detail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68" name="Picture 8" descr="example-tracker.png"/>
          <p:cNvPicPr/>
          <p:nvPr/>
        </p:nvPicPr>
        <p:blipFill>
          <a:blip r:embed="rId1"/>
          <a:srcRect l="1124" t="12668" r="9376" b="5333"/>
          <a:stretch/>
        </p:blipFill>
        <p:spPr>
          <a:xfrm>
            <a:off x="228600" y="320040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10" descr="example-dp.gif"/>
          <p:cNvPicPr/>
          <p:nvPr/>
        </p:nvPicPr>
        <p:blipFill>
          <a:blip r:embed="rId2"/>
          <a:stretch/>
        </p:blipFill>
        <p:spPr>
          <a:xfrm>
            <a:off x="4815000" y="3200400"/>
            <a:ext cx="4151160" cy="2590920"/>
          </a:xfrm>
          <a:prstGeom prst="rect">
            <a:avLst/>
          </a:prstGeom>
          <a:ln w="0">
            <a:noFill/>
          </a:ln>
        </p:spPr>
      </p:pic>
      <p:sp>
        <p:nvSpPr>
          <p:cNvPr id="1270" name="TextBox 11"/>
          <p:cNvSpPr/>
          <p:nvPr/>
        </p:nvSpPr>
        <p:spPr>
          <a:xfrm>
            <a:off x="157320" y="2590920"/>
            <a:ext cx="84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Which momentum resolution for 10 GeV/c pions will I get with 10 MAPS layers at 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Symbol"/>
                <a:ea typeface="Symbol"/>
              </a:rPr>
              <a:t>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4" name="Rectangle 3"/>
          <p:cNvSpPr/>
          <p:nvPr/>
        </p:nvSpPr>
        <p:spPr>
          <a:xfrm>
            <a:off x="68580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reate geometry file (few dozens of lines ROOT C script)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clude few lines in “standard” sim/digi/reco script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nalyze output ROOT fil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75" name="Picture 15" descr="lines.eps"/>
          <p:cNvPicPr/>
          <p:nvPr/>
        </p:nvPicPr>
        <p:blipFill>
          <a:blip r:embed="rId1"/>
          <a:stretch/>
        </p:blipFill>
        <p:spPr>
          <a:xfrm rot="5400000">
            <a:off x="3036960" y="543600"/>
            <a:ext cx="3221280" cy="70102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7"/>
          <p:cNvSpPr/>
          <p:nvPr/>
        </p:nvSpPr>
        <p:spPr>
          <a:xfrm>
            <a:off x="273600" y="8380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workflow sequence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0" y="2057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Calorimeters in EicRoo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General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38088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de written from scratch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Unified interface (geometry definition, digitization, clustering) for all EIC calorimeter types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ather detailed digitization implemented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838080" y="365760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nfigurable light yiel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xponential decay time; light collection in a time window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ttenuation length; possible light reflection on one “cell” en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iPM dark counting rate; APD gain, ENF, ENC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nfigurable thresholds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ontent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Overall stat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Update on track resolution studies</a:t>
            </a:r>
            <a:r>
              <a:rPr b="0" lang="ru-RU" sz="36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alorimeter code development &amp; stud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3"/>
          <p:cNvSpPr/>
          <p:nvPr/>
        </p:nvSpPr>
        <p:spPr>
          <a:xfrm>
            <a:off x="990720" y="1905120"/>
            <a:ext cx="7696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VN repository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terface to EIC smearing generator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racking detector “designer” tools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ackward EM Calorimeter (B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86" name="Picture 5" descr="calorimeter-final.png"/>
          <p:cNvPicPr/>
          <p:nvPr/>
        </p:nvPicPr>
        <p:blipFill>
          <a:blip r:embed="rId1"/>
          <a:srcRect l="26250" t="12668" r="30000" b="5333"/>
          <a:stretch/>
        </p:blipFill>
        <p:spPr>
          <a:xfrm>
            <a:off x="228600" y="990720"/>
            <a:ext cx="4192560" cy="441936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4419720" y="1066680"/>
            <a:ext cx="4572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WO-II, layout a la CMS &amp; PANDA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2500mm from the IP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both projective and non-projective geometry implement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 based on PANDA R&amp;D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88" name="Picture 7" descr="calorimeter-final-zoom.png"/>
          <p:cNvPicPr/>
          <p:nvPr/>
        </p:nvPicPr>
        <p:blipFill>
          <a:blip r:embed="rId2"/>
          <a:srcRect l="22874" t="25333" r="27000" b="17333"/>
          <a:stretch/>
        </p:blipFill>
        <p:spPr>
          <a:xfrm>
            <a:off x="4648320" y="3429000"/>
            <a:ext cx="3886200" cy="2500200"/>
          </a:xfrm>
          <a:prstGeom prst="rect">
            <a:avLst/>
          </a:prstGeom>
          <a:ln w="0">
            <a:noFill/>
          </a:ln>
        </p:spPr>
      </p:pic>
      <p:sp>
        <p:nvSpPr>
          <p:cNvPr id="1289" name="TextBox 8"/>
          <p:cNvSpPr/>
          <p:nvPr/>
        </p:nvSpPr>
        <p:spPr>
          <a:xfrm>
            <a:off x="585000" y="563868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10 GeV/c electron hitting one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of the four BEMC quadrants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0" name="TextBox 9"/>
          <p:cNvSpPr/>
          <p:nvPr/>
        </p:nvSpPr>
        <p:spPr>
          <a:xfrm>
            <a:off x="4294800" y="601992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Same event (details of shower development)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EMC energy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4" name="TextBox 7"/>
          <p:cNvSpPr/>
          <p:nvPr/>
        </p:nvSpPr>
        <p:spPr>
          <a:xfrm>
            <a:off x="1458000" y="5943600"/>
            <a:ext cx="76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projective geometry may lag behind in terms of resolution?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5" name="TextBox 10"/>
          <p:cNvSpPr/>
          <p:nvPr/>
        </p:nvSpPr>
        <p:spPr>
          <a:xfrm>
            <a:off x="6615720" y="8380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electrons at </a:t>
            </a:r>
            <a:r>
              <a:rPr b="0" lang="en-US" sz="18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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96" name="Picture 10" descr="bemc-pr-vs-np.gif"/>
          <p:cNvPicPr/>
          <p:nvPr/>
        </p:nvPicPr>
        <p:blipFill>
          <a:blip r:embed="rId1"/>
          <a:stretch/>
        </p:blipFill>
        <p:spPr>
          <a:xfrm>
            <a:off x="990720" y="144792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EMC energy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304920" y="55627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listic” digitization: light yield 17pe/MeV; APD gain 50, ENF 2.0, ENC 4.2k; 10 MeV single cell threshold;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1" name="TextBox 10"/>
          <p:cNvSpPr/>
          <p:nvPr/>
        </p:nvSpPr>
        <p:spPr>
          <a:xfrm>
            <a:off x="5209200" y="76212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non-projective geometry; </a:t>
            </a:r>
            <a:r>
              <a:rPr b="0" lang="en-US" sz="18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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898200" y="609588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4ba"/>
                </a:solidFill>
                <a:latin typeface="Tahoma"/>
              </a:rPr>
              <a:t>-&gt; would be interesting to check sensitivity to all settings in detail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3" name="Picture 7" descr="bemc-np-ideal-vs-real.gif"/>
          <p:cNvPicPr/>
          <p:nvPr/>
        </p:nvPicPr>
        <p:blipFill>
          <a:blip r:embed="rId1"/>
          <a:stretch/>
        </p:blipFill>
        <p:spPr>
          <a:xfrm>
            <a:off x="838080" y="129528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orward EM Calorimeter (F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380880" y="42670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ungsten powder scintillating fiber sampling calorimeter technology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+2500mm from the IP; non-projective geometry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ampling fraction for e/m showers ~2.6%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edium speed” simulation (up to energy deposit in fiber cores)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sonably detailed digitization; “ideal” clustering code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8" name="Picture 5" descr="femc.png"/>
          <p:cNvPicPr/>
          <p:nvPr/>
        </p:nvPicPr>
        <p:blipFill>
          <a:blip r:embed="rId1"/>
          <a:srcRect l="16126" t="13333" r="1124" b="15335"/>
          <a:stretch/>
        </p:blipFill>
        <p:spPr>
          <a:xfrm>
            <a:off x="228600" y="990720"/>
            <a:ext cx="59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6" descr="femc-tower.png"/>
          <p:cNvPicPr/>
          <p:nvPr/>
        </p:nvPicPr>
        <p:blipFill>
          <a:blip r:embed="rId2"/>
          <a:srcRect l="4876" t="16000" r="7876" b="11332"/>
          <a:stretch/>
        </p:blipFill>
        <p:spPr>
          <a:xfrm>
            <a:off x="6477120" y="2362320"/>
            <a:ext cx="2439720" cy="11430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7" descr="femc-fiber.png"/>
          <p:cNvPicPr/>
          <p:nvPr/>
        </p:nvPicPr>
        <p:blipFill>
          <a:blip r:embed="rId3"/>
          <a:srcRect l="30000" t="8668" r="18750" b="5333"/>
          <a:stretch/>
        </p:blipFill>
        <p:spPr>
          <a:xfrm>
            <a:off x="6705720" y="838080"/>
            <a:ext cx="625320" cy="590760"/>
          </a:xfrm>
          <a:prstGeom prst="rect">
            <a:avLst/>
          </a:prstGeom>
          <a:ln w="0">
            <a:noFill/>
          </a:ln>
        </p:spPr>
      </p:pic>
      <p:sp>
        <p:nvSpPr>
          <p:cNvPr id="1311" name="TextBox 8"/>
          <p:cNvSpPr/>
          <p:nvPr/>
        </p:nvSpPr>
        <p:spPr>
          <a:xfrm>
            <a:off x="6264360" y="342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tower (and fiber) geometry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described precisely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12" name="Picture 9" descr="femc-fiber.png"/>
          <p:cNvPicPr/>
          <p:nvPr/>
        </p:nvPicPr>
        <p:blipFill>
          <a:blip r:embed="rId4"/>
          <a:srcRect l="30000" t="8668" r="18750" b="5333"/>
          <a:stretch/>
        </p:blipFill>
        <p:spPr>
          <a:xfrm>
            <a:off x="6705720" y="190512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0" descr="femc-fiber.png"/>
          <p:cNvPicPr/>
          <p:nvPr/>
        </p:nvPicPr>
        <p:blipFill>
          <a:blip r:embed="rId5"/>
          <a:srcRect l="30000" t="8668" r="18750" b="5333"/>
          <a:stretch/>
        </p:blipFill>
        <p:spPr>
          <a:xfrm>
            <a:off x="7010280" y="1371600"/>
            <a:ext cx="625680" cy="5904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1" descr="femc-fiber.png"/>
          <p:cNvPicPr/>
          <p:nvPr/>
        </p:nvPicPr>
        <p:blipFill>
          <a:blip r:embed="rId6"/>
          <a:srcRect l="30000" t="8668" r="18750" b="5333"/>
          <a:stretch/>
        </p:blipFill>
        <p:spPr>
          <a:xfrm>
            <a:off x="7315200" y="838080"/>
            <a:ext cx="625320" cy="59076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12" descr="femc-fiber.png"/>
          <p:cNvPicPr/>
          <p:nvPr/>
        </p:nvPicPr>
        <p:blipFill>
          <a:blip r:embed="rId7"/>
          <a:srcRect l="30000" t="8668" r="18750" b="5333"/>
          <a:stretch/>
        </p:blipFill>
        <p:spPr>
          <a:xfrm>
            <a:off x="6400800" y="137160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3" descr="femc-fiber.png"/>
          <p:cNvPicPr/>
          <p:nvPr/>
        </p:nvPicPr>
        <p:blipFill>
          <a:blip r:embed="rId8"/>
          <a:srcRect l="30000" t="8668" r="18750" b="5333"/>
          <a:stretch/>
        </p:blipFill>
        <p:spPr>
          <a:xfrm>
            <a:off x="7620120" y="137160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14" descr="femc-fiber.png"/>
          <p:cNvPicPr/>
          <p:nvPr/>
        </p:nvPicPr>
        <p:blipFill>
          <a:blip r:embed="rId9"/>
          <a:srcRect l="30000" t="8668" r="18750" b="5333"/>
          <a:stretch/>
        </p:blipFill>
        <p:spPr>
          <a:xfrm>
            <a:off x="7315200" y="1905120"/>
            <a:ext cx="6253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EMC energy resolution study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1" name="Picture 6" descr="femc-orig.gif"/>
          <p:cNvPicPr/>
          <p:nvPr/>
        </p:nvPicPr>
        <p:blipFill>
          <a:blip r:embed="rId1"/>
          <a:stretch/>
        </p:blipFill>
        <p:spPr>
          <a:xfrm>
            <a:off x="914400" y="1219320"/>
            <a:ext cx="7077240" cy="4195800"/>
          </a:xfrm>
          <a:prstGeom prst="rect">
            <a:avLst/>
          </a:prstGeom>
          <a:ln w="0">
            <a:noFill/>
          </a:ln>
        </p:spPr>
      </p:pic>
      <p:sp>
        <p:nvSpPr>
          <p:cNvPr id="1322" name="TextBox 7"/>
          <p:cNvSpPr/>
          <p:nvPr/>
        </p:nvSpPr>
        <p:spPr>
          <a:xfrm>
            <a:off x="1421640" y="609588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good agreement with original MC studies and measured data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3" name="Rectangle 3"/>
          <p:cNvSpPr/>
          <p:nvPr/>
        </p:nvSpPr>
        <p:spPr>
          <a:xfrm>
            <a:off x="304920" y="548640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listic” digitization: 40MHz SiPM noise in 50ns gate; 4m attenuation length; 5 pixel single tower threshold; 70% light reflection on upstream fiber end;  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4" name="TextBox 10"/>
          <p:cNvSpPr/>
          <p:nvPr/>
        </p:nvSpPr>
        <p:spPr>
          <a:xfrm>
            <a:off x="4300200" y="7621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3 degree track-to-tower-axis incident angle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EMC tower “optimization”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8" name="Picture 5" descr="femc-safe-vs-orig.gif"/>
          <p:cNvPicPr/>
          <p:nvPr/>
        </p:nvPicPr>
        <p:blipFill>
          <a:blip r:embed="rId1"/>
          <a:stretch/>
        </p:blipFill>
        <p:spPr>
          <a:xfrm>
            <a:off x="304920" y="1295280"/>
            <a:ext cx="6368760" cy="377676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6" descr="original-mesh.png"/>
          <p:cNvPicPr/>
          <p:nvPr/>
        </p:nvPicPr>
        <p:blipFill>
          <a:blip r:embed="rId2"/>
          <a:srcRect l="10035" t="13458" r="10035" b="13458"/>
          <a:stretch/>
        </p:blipFill>
        <p:spPr>
          <a:xfrm>
            <a:off x="7010280" y="990720"/>
            <a:ext cx="1922760" cy="196668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7" descr="new-safe-mesh.png"/>
          <p:cNvPicPr/>
          <p:nvPr/>
        </p:nvPicPr>
        <p:blipFill>
          <a:blip r:embed="rId3"/>
          <a:srcRect l="10035" t="13458" r="10035" b="14577"/>
          <a:stretch/>
        </p:blipFill>
        <p:spPr>
          <a:xfrm>
            <a:off x="7010280" y="3657600"/>
            <a:ext cx="1922760" cy="193680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8"/>
          <p:cNvSpPr/>
          <p:nvPr/>
        </p:nvSpPr>
        <p:spPr>
          <a:xfrm>
            <a:off x="7125480" y="2971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original mesh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2" name="TextBox 9"/>
          <p:cNvSpPr/>
          <p:nvPr/>
        </p:nvSpPr>
        <p:spPr>
          <a:xfrm>
            <a:off x="6966720" y="5715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optimized mesh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3" name="TextBox 10"/>
          <p:cNvSpPr/>
          <p:nvPr/>
        </p:nvSpPr>
        <p:spPr>
          <a:xfrm>
            <a:off x="975600" y="5410080"/>
            <a:ext cx="608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optimized mesh design can probably decreas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 “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nstant term” in energy resolution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arrel EM Calorimeter (C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37" name="Picture 4" descr="cemc.png"/>
          <p:cNvPicPr/>
          <p:nvPr/>
        </p:nvPicPr>
        <p:blipFill>
          <a:blip r:embed="rId1"/>
          <a:srcRect l="24002" t="14002" r="12000" b="5333"/>
          <a:stretch/>
        </p:blipFill>
        <p:spPr>
          <a:xfrm>
            <a:off x="228600" y="114300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338" name="Rectangle 3"/>
          <p:cNvSpPr/>
          <p:nvPr/>
        </p:nvSpPr>
        <p:spPr>
          <a:xfrm>
            <a:off x="380880" y="4952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ame tungsten powder + fibers technology as FEMC, …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but towers are tapered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non-projective; radial distance from beam line [815 .. 980]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39" name="Picture 7" descr="cemc-vs-energy.gif"/>
          <p:cNvPicPr/>
          <p:nvPr/>
        </p:nvPicPr>
        <p:blipFill>
          <a:blip r:embed="rId2"/>
          <a:stretch/>
        </p:blipFill>
        <p:spPr>
          <a:xfrm>
            <a:off x="4724280" y="1143000"/>
            <a:ext cx="4246560" cy="3051000"/>
          </a:xfrm>
          <a:prstGeom prst="rect">
            <a:avLst/>
          </a:prstGeom>
          <a:ln w="0">
            <a:noFill/>
          </a:ln>
        </p:spPr>
      </p:pic>
      <p:sp>
        <p:nvSpPr>
          <p:cNvPr id="1340" name="TextBox 8"/>
          <p:cNvSpPr/>
          <p:nvPr/>
        </p:nvSpPr>
        <p:spPr>
          <a:xfrm>
            <a:off x="3461400" y="4191120"/>
            <a:ext cx="58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barrel calorimeter collects less light, but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ponse (at a fixed 3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ahoma"/>
              </a:rPr>
              <a:t>o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angle) is perfectly linear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990720" y="5715000"/>
            <a:ext cx="764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simulation does not show any noticeable difference in energy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olution between straight and tapered tower calorimeters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5" name="TextBox 8"/>
          <p:cNvSpPr/>
          <p:nvPr/>
        </p:nvSpPr>
        <p:spPr>
          <a:xfrm>
            <a:off x="4300200" y="7621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3 degree track-to-tower-axis incident angle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46" name="Picture 9" descr="cemc-vs-femc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0" name="TextBox 7"/>
          <p:cNvSpPr/>
          <p:nvPr/>
        </p:nvSpPr>
        <p:spPr>
          <a:xfrm>
            <a:off x="990720" y="5715000"/>
            <a:ext cx="76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nergy response goes down with polar angle because of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effectively decreasing sampling fraction; quite reasonable 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1" name="TextBox 8"/>
          <p:cNvSpPr/>
          <p:nvPr/>
        </p:nvSpPr>
        <p:spPr>
          <a:xfrm>
            <a:off x="5907240" y="9144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8 GeV/c electrons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52" name="Picture 8" descr="cemc-e0-vs-theta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3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6" name="TextBox 7"/>
          <p:cNvSpPr/>
          <p:nvPr/>
        </p:nvSpPr>
        <p:spPr>
          <a:xfrm>
            <a:off x="990720" y="5715000"/>
            <a:ext cx="76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nergy resolution degrades with polar angle because of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effectively decreasing sampling frequency (?) 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7" name="TextBox 8"/>
          <p:cNvSpPr/>
          <p:nvPr/>
        </p:nvSpPr>
        <p:spPr>
          <a:xfrm>
            <a:off x="5907240" y="9144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8 GeV/c electrons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58" name="Picture 7" descr="cemc-de-vs-theta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IC in FairRoot framework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VMC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VG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Boost” libr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4"/>
          <p:cNvSpPr/>
          <p:nvPr/>
        </p:nvSpPr>
        <p:spPr>
          <a:xfrm>
            <a:off x="249840" y="2438280"/>
            <a:ext cx="2840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FairRoot external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package bundl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4" name="Text Box 4"/>
          <p:cNvSpPr/>
          <p:nvPr/>
        </p:nvSpPr>
        <p:spPr>
          <a:xfrm>
            <a:off x="3841200" y="2438280"/>
            <a:ext cx="1867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FairBas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C++ classe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492600" y="1676520"/>
            <a:ext cx="15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Cbm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6" name="Text Box 4"/>
          <p:cNvSpPr/>
          <p:nvPr/>
        </p:nvSpPr>
        <p:spPr>
          <a:xfrm>
            <a:off x="6514200" y="2209680"/>
            <a:ext cx="147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R3B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6453360" y="3276720"/>
            <a:ext cx="192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PandaRoot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7262640" y="5181480"/>
            <a:ext cx="1660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eic-smear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9" name="Right Arrow 16"/>
          <p:cNvSpPr/>
          <p:nvPr/>
        </p:nvSpPr>
        <p:spPr>
          <a:xfrm>
            <a:off x="3200400" y="2743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0" name="Right Arrow 17"/>
          <p:cNvSpPr/>
          <p:nvPr/>
        </p:nvSpPr>
        <p:spPr>
          <a:xfrm>
            <a:off x="5943600" y="17524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1" name="Right Arrow 18"/>
          <p:cNvSpPr/>
          <p:nvPr/>
        </p:nvSpPr>
        <p:spPr>
          <a:xfrm>
            <a:off x="5943600" y="2286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2" name="Right Arrow 19"/>
          <p:cNvSpPr/>
          <p:nvPr/>
        </p:nvSpPr>
        <p:spPr>
          <a:xfrm>
            <a:off x="5943600" y="33526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3" name="Right Arrow 20"/>
          <p:cNvSpPr/>
          <p:nvPr/>
        </p:nvSpPr>
        <p:spPr>
          <a:xfrm rot="16200000">
            <a:off x="7848360" y="464796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7c71b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7467480" y="3962520"/>
            <a:ext cx="136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ic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5" name="Bent-Up Arrow 24"/>
          <p:cNvSpPr/>
          <p:nvPr/>
        </p:nvSpPr>
        <p:spPr>
          <a:xfrm rot="5400000">
            <a:off x="6904800" y="3763080"/>
            <a:ext cx="457200" cy="550800"/>
          </a:xfrm>
          <a:prstGeom prst="pie">
            <a:avLst/>
          </a:prstGeom>
          <a:solidFill>
            <a:srgbClr val="27c71b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228600" y="54100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-&gt; Make best use of FairRoot development 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-&gt; Utilize efficiently existing codes developed by EIC taskforc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0" y="9907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airRoot is officially maintained by GSI; dedicated developer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O(10) active experiments; O(100) user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8" name="Text Box 4"/>
          <p:cNvSpPr/>
          <p:nvPr/>
        </p:nvSpPr>
        <p:spPr>
          <a:xfrm>
            <a:off x="6502320" y="2743200"/>
            <a:ext cx="441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3429000" y="350532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terface to GEANT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agnetic fields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arameter database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C stack handling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alorimet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llow to easily add “simple” calorimeter detector templates to the “official” 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Require next to zero coding effor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TextBox 11"/>
          <p:cNvSpPr/>
          <p:nvPr/>
        </p:nvSpPr>
        <p:spPr>
          <a:xfrm>
            <a:off x="201240" y="2666880"/>
            <a:ext cx="85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Which energy resolution for 1 GeV/c electrons will I get with a “basic” PWO calorimeter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Symbol"/>
                <a:ea typeface="Symbol"/>
              </a:rPr>
              <a:t>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64" name="Picture 12" descr="example-calorimetry.png"/>
          <p:cNvPicPr/>
          <p:nvPr/>
        </p:nvPicPr>
        <p:blipFill>
          <a:blip r:embed="rId1"/>
          <a:srcRect l="0" t="7335" r="0" b="4000"/>
          <a:stretch/>
        </p:blipFill>
        <p:spPr>
          <a:xfrm>
            <a:off x="228600" y="3352680"/>
            <a:ext cx="4419720" cy="282276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13" descr="example-de.gif"/>
          <p:cNvPicPr/>
          <p:nvPr/>
        </p:nvPicPr>
        <p:blipFill>
          <a:blip r:embed="rId2"/>
          <a:stretch/>
        </p:blipFill>
        <p:spPr>
          <a:xfrm>
            <a:off x="4800600" y="3352680"/>
            <a:ext cx="411480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alorimet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s long as the following is tr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-154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one can with a moderate effort (99% of which is writing a ROOT C macro with geometry and mapping description) build custom EicRoot-friendly calorimeter which can be used for both standalone resolution studies and/or as an optional EIC device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(and internal cell structure does not matter)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TextBox 7"/>
          <p:cNvSpPr/>
          <p:nvPr/>
        </p:nvSpPr>
        <p:spPr>
          <a:xfrm>
            <a:off x="1045800" y="5791320"/>
            <a:ext cx="83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see tutorials/designer/calorimetry directory for detail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609480" y="144792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your dream calorimeter is a logical 2D matrix …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mposed of “long cells” as elementary units,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ll the game is based on (known) light output per energy deposit,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nergy resolution after “ideal” digitization suffices as a result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0" y="2057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Overall status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icRoot availability &amp; usage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1447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-&gt; MC point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Text Box 4"/>
          <p:cNvSpPr/>
          <p:nvPr/>
        </p:nvSpPr>
        <p:spPr>
          <a:xfrm>
            <a:off x="149400" y="3733920"/>
            <a:ext cx="1546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simula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VN -&gt; </a:t>
            </a:r>
            <a:r>
              <a:rPr b="0" lang="en-US" sz="2400" spc="-1" strike="noStrike" u="sng">
                <a:solidFill>
                  <a:srgbClr val="91afbf"/>
                </a:solidFill>
                <a:uFillTx/>
                <a:latin typeface="Tahoma"/>
                <a:ea typeface="ＭＳ Ｐゴシック"/>
                <a:hlinkClick r:id="rId1"/>
              </a:rPr>
              <a:t>http://svn.racf.bnl.gov/svn/eic/eic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000* cluster -&gt; /eic/data/Fair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2288520" y="3733920"/>
            <a:ext cx="1636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digitiza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7211520" y="3733920"/>
            <a:ext cx="1486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PID” Pas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4570200" y="3733920"/>
            <a:ext cx="2066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reconstruc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0" name="Right Arrow 16"/>
          <p:cNvSpPr/>
          <p:nvPr/>
        </p:nvSpPr>
        <p:spPr>
          <a:xfrm>
            <a:off x="1752480" y="38098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1" name="Right Arrow 26"/>
          <p:cNvSpPr/>
          <p:nvPr/>
        </p:nvSpPr>
        <p:spPr>
          <a:xfrm>
            <a:off x="4038480" y="38098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2" name="Right Arrow 27"/>
          <p:cNvSpPr/>
          <p:nvPr/>
        </p:nvSpPr>
        <p:spPr>
          <a:xfrm>
            <a:off x="6705720" y="3809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2209680" y="4114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Hit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4495680" y="41148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“Short” tracks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Cluster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7010280" y="41148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“Combined” tracks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Vertices @ IP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3352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OOT files for analysis available after each step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++ class structure is (well?) defined at each I/O stage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7" name="TextBox 18"/>
          <p:cNvSpPr/>
          <p:nvPr/>
        </p:nvSpPr>
        <p:spPr>
          <a:xfrm>
            <a:off x="1088280" y="30481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End user point of view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8" name="Rectangle 3"/>
          <p:cNvSpPr/>
          <p:nvPr/>
        </p:nvSpPr>
        <p:spPr>
          <a:xfrm>
            <a:off x="914400" y="19810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DME &amp; installation hints </a:t>
            </a:r>
            <a:r>
              <a:rPr b="0" lang="ru-RU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ew basic usage examples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Interface to </a:t>
            </a:r>
            <a:r>
              <a:rPr b="0" i="1" lang="en-US" sz="4800" spc="-1" strike="noStrike">
                <a:solidFill>
                  <a:srgbClr val="515f7b"/>
                </a:solidFill>
                <a:latin typeface="Tahoma"/>
              </a:rPr>
              <a:t>eic-smear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15f7b"/>
                </a:solidFill>
                <a:uFillTx/>
                <a:latin typeface="Tahoma"/>
              </a:rPr>
              <a:t>EicRoot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15f7b"/>
                </a:solidFill>
                <a:uFillTx/>
                <a:latin typeface="Tahoma"/>
              </a:rPr>
              <a:t>EicRoot output</a:t>
            </a:r>
            <a:r>
              <a:rPr b="0" lang="ru-RU" sz="3200" spc="-1" strike="noStrike" u="sng">
                <a:solidFill>
                  <a:srgbClr val="515f7b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515f7b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838080" y="1523880"/>
            <a:ext cx="8153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rectly uses </a:t>
            </a:r>
            <a:r>
              <a:rPr b="0" i="1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-smear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library calls to import ASCII event files after MC generators …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s well as “unified” ROOT format event files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4" name="Rectangle 3"/>
          <p:cNvSpPr/>
          <p:nvPr/>
        </p:nvSpPr>
        <p:spPr>
          <a:xfrm>
            <a:off x="838080" y="3962520"/>
            <a:ext cx="8153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s available in </a:t>
            </a:r>
            <a:r>
              <a:rPr b="0" i="1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-smear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ormat with charged particle momentum variables “smeared” by Kalman Filter fit after track reconstruction …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while other variables modified by smearing generator according to its recipes 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Detector view (June’2013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762120" y="5867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MC and tracking detectors ~implemented so far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99" name="Picture 18" descr="detectorCut.png"/>
          <p:cNvPicPr/>
          <p:nvPr/>
        </p:nvPicPr>
        <p:blipFill>
          <a:blip r:embed="rId1"/>
          <a:srcRect l="18374" t="15335" r="7500" b="5998"/>
          <a:stretch/>
        </p:blipFill>
        <p:spPr>
          <a:xfrm>
            <a:off x="685800" y="1066680"/>
            <a:ext cx="7913520" cy="472464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19"/>
          <p:cNvSpPr/>
          <p:nvPr/>
        </p:nvSpPr>
        <p:spPr>
          <a:xfrm>
            <a:off x="2192760" y="4419720"/>
            <a:ext cx="8038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1" name="TextBox 20"/>
          <p:cNvSpPr/>
          <p:nvPr/>
        </p:nvSpPr>
        <p:spPr>
          <a:xfrm>
            <a:off x="1731600" y="5334120"/>
            <a:ext cx="8085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2" name="TextBox 21"/>
          <p:cNvSpPr/>
          <p:nvPr/>
        </p:nvSpPr>
        <p:spPr>
          <a:xfrm>
            <a:off x="5081760" y="4876920"/>
            <a:ext cx="1328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LENOID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3" name="TextBox 22"/>
          <p:cNvSpPr/>
          <p:nvPr/>
        </p:nvSpPr>
        <p:spPr>
          <a:xfrm>
            <a:off x="6387480" y="1447920"/>
            <a:ext cx="7779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Update on track 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resolution studies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ing element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8" name="Rectangle 3"/>
          <p:cNvSpPr/>
          <p:nvPr/>
        </p:nvSpPr>
        <p:spPr>
          <a:xfrm>
            <a:off x="838080" y="251460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x7 disks with up to 280 mm radius; MAPS pixels assum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N sectors per disk; 20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 silicon-equivalent thicknes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same as for vertex tracker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457200" y="1981080"/>
            <a:ext cx="6705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forward/backward silicon tracker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0" name="Footer Placeholder 4"/>
          <p:cNvSpPr/>
          <p:nvPr/>
        </p:nvSpPr>
        <p:spPr>
          <a:xfrm>
            <a:off x="457200" y="3657600"/>
            <a:ext cx="6705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TPC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457200" y="5181480"/>
            <a:ext cx="6705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GEM tracker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838080" y="4038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~2m long; gas volume radius [300..800] 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1.2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IFC, 4.0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OFC; 15.0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aluminum endcap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idealized, assume 1x5 mm GEM pads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838080" y="5638680"/>
            <a:ext cx="708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3 disks behind the TPC endcap; STAR FGT desig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10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 resolution in X&amp;Y; gaussian smearing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4" name="Footer Placeholder 4"/>
          <p:cNvSpPr/>
          <p:nvPr/>
        </p:nvSpPr>
        <p:spPr>
          <a:xfrm>
            <a:off x="457200" y="762120"/>
            <a:ext cx="6705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vertex silicon tracker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5" name="Rectangle 3"/>
          <p:cNvSpPr/>
          <p:nvPr/>
        </p:nvSpPr>
        <p:spPr>
          <a:xfrm>
            <a:off x="838080" y="1295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6 MAPS layers at up to of 160mm radius; STAR ladder desig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discrete ~20x2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</a:t>
            </a:r>
            <a:r>
              <a:rPr b="0" lang="en-US" sz="2000" spc="-1" strike="noStrike" baseline="30000">
                <a:solidFill>
                  <a:srgbClr val="515f7b"/>
                </a:solidFill>
                <a:latin typeface="Tahoma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pixel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4:19:49Z</dcterms:created>
  <dc:creator>Alexander Kiselev</dc:creator>
  <dc:description/>
  <dc:language>en-US</dc:language>
  <cp:lastModifiedBy>Alexander Kiselev</cp:lastModifiedBy>
  <dcterms:modified xsi:type="dcterms:W3CDTF">2013-06-20T17:25:27Z</dcterms:modified>
  <cp:revision>445</cp:revision>
  <dc:subject/>
  <dc:title>BNL interview talk (June 2012)</dc:title>
</cp:coreProperties>
</file>